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1.jpeg" ContentType="image/jpeg"/>
  <Override PartName="/ppt/media/image1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7.wmf" ContentType="image/x-wmf"/>
  <Override PartName="/ppt/media/image15.wmf" ContentType="image/x-wmf"/>
  <Override PartName="/ppt/media/image22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078-7312-4668-8C42-5786FE04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66B-EAE7-443B-A20E-C32215B2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1EF-FD2B-4B31-81B6-8CC71814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AD0-6A0B-4AAE-B46D-4E3CB4A4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91F3-4BB7-4E25-B7C0-80B31998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5DC1-3763-4846-8B78-7717528A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74E5-BC8F-4BFB-ACF9-B9E665FC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BCD0-9041-4C6B-BA59-D1A9EF69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3A8F-EC11-4317-B2CF-CBCA4258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1F24-F0A3-4EFE-8AB2-EC067FAC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2D9E-DED8-4EBB-A537-117EBA23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34A-6B47-42A6-930F-CBB16417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16F7-5FC3-4603-B173-042EDD26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5406-1C7D-45EB-880C-FF70D2A5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D338-85CE-4D76-BE49-5C0F68BA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957A-6BF7-487B-ADFE-2F0E3912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C65C-DDE6-49F1-AA8B-7690218E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6FE-3B9B-4B50-9096-44B9766F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081-50CB-4C85-8A7E-2424B5D0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ABD-D4AE-4251-B52B-16E294A4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266-7C40-475D-BAF4-8AB4B90E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7C1-DE97-403B-8CFD-BC959CD7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C10-858E-47C5-B8BF-ECE99ABD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B14-654F-4B53-9932-57280137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FAF-2A12-485E-A430-0CB2BD17AE8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E6A3-40E6-41BA-8766-9A07DD9EEDC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17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uman Interactio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17Q1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asic Need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ypes of Communica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arent/Child Relationship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ove Relationship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Nonverbal Communic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2743200" cy="2705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172200" y="1378080"/>
            <a:ext cx="25146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905120"/>
            <a:ext cx="81536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f relationship is loving, responsive,       and/or constant in infancy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Develop trust in others to meet their need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rent/Child Relationship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657600"/>
            <a:ext cx="815364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f relationship is unresponsive, inconsistent, and/or unaffectionate in infancy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ill be wary or mistrustful of othe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226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ll other relationships modeled by      mimicking parent relationships with oth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94796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53200" y="403848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905120"/>
            <a:ext cx="8153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Liking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is based on respect and similarit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Lov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is based on attachment, desire to help, and intimate relationshi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assionate love – emotional and sexual fascination with mat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panionate love – affection with those who lives intersect/affect ou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ve Relationship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05120"/>
            <a:ext cx="81536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uccess if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imilar cultural / economic backgroun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ame level of educ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ractice (or fail to practice) the same relig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oth come from a nuclear family backgroun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ve Relationships:  Marri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715000" y="3809880"/>
            <a:ext cx="2590920" cy="25146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05120"/>
            <a:ext cx="815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tages of marriag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Newlywed Peri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hildren Peri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hildren’s Adolesce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mpty Nest Peri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lone Again Peri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ve Relationships:  Marri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86600" y="1143000"/>
            <a:ext cx="1630440" cy="2262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24280" y="1959120"/>
            <a:ext cx="22860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9051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ealthy marriages must have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patible need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lf image matches image of each oth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gree about rol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Love Relationships:  Marri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5990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30% of newborn’s parents are divorced by 18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30% of newborn’s born to single moth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40% of newborn’s live w/ both parents thru 18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026"/>
          <a:stretch/>
        </p:blipFill>
        <p:spPr>
          <a:xfrm>
            <a:off x="7086600" y="1371600"/>
            <a:ext cx="1603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nverbal Communic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905120"/>
            <a:ext cx="8153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Message sent consists of an idea and some emotional componen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ften subconsciously done using facial expressions, posture and gestures (“doesn’t matter” exampl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1554120" cy="1819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1577880" cy="2212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28195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nverbal Communication type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051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ersonal Spa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ersonal Bubble” – if breeched we feel threatened, imposed upon or uncomfortab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519360"/>
            <a:ext cx="8763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ize varies from culture to culture (4 type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ntimate distance (18 inche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ersonal distance (4 fee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ocial distance (4 to 12 fee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ublic distance (12+ fee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nverbal Communication type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90512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ody Languag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all and erect = self-assure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rms folded and legs crossed = protec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termine our first impressions of peop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ifferent meanings for different cultur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Germans and Americans / Blacks and Whit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17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uman Interactio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17Q3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erceptions and Group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rom an early age, we depend on others to satisfy our nee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ue to our social nature, we need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rais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ove and affec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nse of achiev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ther” reward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05520" y="3173400"/>
            <a:ext cx="327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erceptions of peop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9051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Implicit personality theory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– our personal set of assumptions about how people behav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xample: write down personality characteristics for an “intelligent individual”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038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ome would say they are “active, motivated, conscientious”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029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thers would say they are “boring, boastful, unfriendly”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erceptions of peop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051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ose perceptions are based off of past experiences and expectations (speaker exampl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862360"/>
            <a:ext cx="8763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Attribution theory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– how we interpret and understand other people’s behavio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xample: honking a car hor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58460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Fundamental attribution error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– situation causes behavior or result (losing or winning a gam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Self-serving bias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– make yourself look goo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hat defines a “group”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932120"/>
            <a:ext cx="876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nterdepende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mon Goals (task and/or social function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munic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8862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ow groups are held together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572000"/>
            <a:ext cx="876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Norms (rules of behavior/attitude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deology (common goal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mitment (levels of participation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324480" y="63504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roup Interaction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9321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ole = behavior expected of an individual in the grou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ach person has multiple roles that may conflict when entering a grou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4059360"/>
            <a:ext cx="2666880" cy="2265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2622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mmunication Pattern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9321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ociograms – study done by Leavitt that shows how people communicate in a group sett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3886200" cy="3108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3044880"/>
            <a:ext cx="411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entralized organization helps task oriented groups operate (wheel, chain, y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ecentralized networks helps socially oriented groups operate (circle, squar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hat makes a leader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932120"/>
            <a:ext cx="60199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y tend to be better adjusted, more self-confident, energetic, and outgo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eaders also tend to be more intelligent than other members of the grou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eaders tend to focus on some combination of task completion (output) and/or group welf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95880" y="4334040"/>
            <a:ext cx="2895840" cy="2066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095880" y="1905120"/>
            <a:ext cx="28958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justment to Societ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11763" r="0" b="0"/>
          <a:stretch/>
        </p:blipFill>
        <p:spPr>
          <a:xfrm>
            <a:off x="2895480" y="2438280"/>
            <a:ext cx="3753000" cy="3429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19320" y="198108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905120"/>
            <a:ext cx="7772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ollege or Full Time Employment? 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What is next for you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876320"/>
            <a:ext cx="81532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chachter experiment on anxiet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Created a high and low anxiety grou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Let them pick how to wait: alone or with othe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sult:  “Misery loves company”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02752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4067280"/>
            <a:ext cx="3886200" cy="2562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on’t think we need others?  Well…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815328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chachter experiment on peer comparison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ll were high anxiet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Let them pick how to wait: with people going thru the same experiment or with uninterested studen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sult:  “Misery loves miserable company”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3886200" cy="256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507000" y="3352680"/>
            <a:ext cx="2027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952640"/>
            <a:ext cx="81532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hysical Proximity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More opportunity for interac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Get used to each other (downtime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Easy to talk to without risk of rejec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oosing Friends – convenience is key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3909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True or False for you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Home base” examp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chool or work examp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00800" y="4384800"/>
            <a:ext cx="2362320" cy="200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705720" y="1828800"/>
            <a:ext cx="1993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95264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eward Values (what do they provid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timulation value (interesting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Utility value (ability to help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go-support value (emotional suppor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oosing Friends – convenience is key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6195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True or False for you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hich one do your friends provide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hich one do you provide to your friends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952640"/>
            <a:ext cx="8153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hysical Appeara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Greatly influences others impression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hysically attractive people are seen as sensitive, kind, interesting, strong, poised, modest, and sociab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idden stereotyp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ek equals in attractiveness scale when dat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oosing Friends – convenience is key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ahoma"/>
              </a:rPr>
              <a:t>Human Interac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Q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5264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pprov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ruthful but not hurtful or blindly loy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hoosing Friends – convenience is key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182760"/>
            <a:ext cx="815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imilarit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Generally someone whose background, attitude and interests are similar to your ow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ncreases proximity / decreases disagreement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17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uman Interactio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17Q2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ersonal Relationship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8:20:12Z</dcterms:created>
  <dc:creator>Authorized User</dc:creator>
  <dc:description/>
  <dc:language>en-US</dc:language>
  <cp:lastModifiedBy>Brent J. Freccia</cp:lastModifiedBy>
  <dcterms:modified xsi:type="dcterms:W3CDTF">2007-04-15T15:30:45Z</dcterms:modified>
  <cp:revision>22</cp:revision>
  <dc:subject/>
  <dc:title>PowerPoint Presentation</dc:title>
</cp:coreProperties>
</file>